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1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BA96-3F88-4A6D-A02D-5B256621E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38F-98D1-46A7-8E86-844A69910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807E4-30ED-48A4-8646-1AEF28E5C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74280" y="4681080"/>
            <a:ext cx="53895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FB84-25FA-4C7B-AF42-369D4B8D3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F6890-B170-4F7F-82AB-098E43225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FB5B9-D4B0-4240-A40D-D6A21CA8CF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2E9C-90DB-4AB1-9051-C700EF2B0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E4732-CE77-49E7-9B03-E968E0D3D1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74280" y="4681080"/>
            <a:ext cx="53895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3574-C004-43A1-A881-FA856D127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7920" y="739800"/>
            <a:ext cx="49294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5E8-A75A-4345-BF27-6B24C9B61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85615-F50B-403B-B9CF-409EEDC98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3920" y="739800"/>
            <a:ext cx="44974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4508-E97C-432D-B553-468F10DE7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1663C-0CE1-4054-A76F-57EDCEDE0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74280" y="4681080"/>
            <a:ext cx="53895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4ED0-49FC-409E-93AA-A1E147B9D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23920" y="739800"/>
            <a:ext cx="4495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74280" y="4681080"/>
            <a:ext cx="53895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139F-B1F5-4370-80BD-3329714C0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2A717-AB4F-4A3C-BD31-F33FF99D1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B0ABB-A593-443A-AEF9-00012901F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1183-24E6-4814-AEBE-44847FAC4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2C23A-C23B-4FAF-8CCC-FD6A3C26C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CC0E4-2A84-440E-87D9-DCA883459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55C-2940-4086-9F6E-8FCA9685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370-485A-401F-A835-E82F7BC6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A84-6750-48ED-BFC8-35801BFE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1D2-8F6D-4D2A-90A3-43E935AA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5E6-1793-4704-B559-6BD32DF4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5AE-F08C-48A1-B3F4-652B1FA9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7B2-F302-4474-ABF6-B344281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1DE-1569-4FDF-A9C0-A166BC02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EF6-D35E-4CD7-B931-6F839C05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FFC-AD2E-45C1-828B-B80A665E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62F-2CE2-4398-9143-9BAA0D41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D94-3132-4B2B-A064-7A24EFAC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553F4B5D-ED4D-4861-A3DB-6C7652668CE2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jpe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Annual Review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28880" y="1376280"/>
          <a:ext cx="7199280" cy="44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376280"/>
                    <a:ext cx="719928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nnectivity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0720" y="1271520"/>
            <a:ext cx="76741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o major changes in deliv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st partners have lower costs, as exp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tal SA2 cost lowered from 7.8 M€ to 6.9 M€ (savings of 0.9 M€). EC contribution is 0.8 M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easibility studies (no cost item) finished for European partners; international part for non-EU partners still ong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or infrastructures to be available in 2007 (MPI, CNI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prospects for non-EU partners to reach Europe (CSIRO, HRAO, ShAO, TIGO, NAI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:00-09: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s /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09:30-11:00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EXPReS Summary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1/NA2/NA3/NA4- Network Activities 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1- Production e-VLBI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2- Network Provision for a Global e-VLBI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20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JRA1- Future Arrays of Broadband Radio Telescop on Internet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00-11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15-11: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User: Benefits and capabilities of e-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45-12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nts from E.C. on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:30-13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BEF-F87E-4A46-8051-E5CB087AA8C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497-58A2-49D1-ACCB-285D8EAAF1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27520" y="146052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21049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523880" y="214488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666880" y="223668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809880" y="2209680"/>
            <a:ext cx="836640" cy="405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876920" y="2268360"/>
            <a:ext cx="888840" cy="287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6019920" y="226044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7802640" y="1981080"/>
            <a:ext cx="73188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685800" y="3110040"/>
            <a:ext cx="849240" cy="587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1752480" y="3193920"/>
            <a:ext cx="2246400" cy="590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338720" y="294624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kk-ctv-eng" descr=""/>
          <p:cNvPicPr/>
          <p:nvPr/>
        </p:nvPicPr>
        <p:blipFill>
          <a:blip r:embed="rId12"/>
          <a:stretch/>
        </p:blipFill>
        <p:spPr>
          <a:xfrm>
            <a:off x="5257800" y="311940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tretch/>
        </p:blipFill>
        <p:spPr>
          <a:xfrm>
            <a:off x="7767720" y="30956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tretch/>
        </p:blipFill>
        <p:spPr>
          <a:xfrm>
            <a:off x="587520" y="416556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1882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3025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tretch/>
        </p:blipFill>
        <p:spPr>
          <a:xfrm>
            <a:off x="4241880" y="423720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8"/>
          <a:stretch/>
        </p:blipFill>
        <p:spPr>
          <a:xfrm>
            <a:off x="5235480" y="439416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9"/>
          <a:stretch/>
        </p:blipFill>
        <p:spPr>
          <a:xfrm>
            <a:off x="6835680" y="4459320"/>
            <a:ext cx="1698840" cy="326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0"/>
          <a:stretch/>
        </p:blipFill>
        <p:spPr>
          <a:xfrm>
            <a:off x="4038480" y="54100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499-285F-4E5C-9BFE-C537BEB07D7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Financial status (1</a:t>
            </a:r>
            <a:r>
              <a:rPr b="0" lang="en-GB" sz="4000" spc="-1" strike="noStrike" baseline="33000">
                <a:solidFill>
                  <a:srgbClr val="333399"/>
                </a:solidFill>
                <a:latin typeface="Times New Roman"/>
              </a:rPr>
              <a:t>st</a:t>
            </a: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 Year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3360" y="1131840"/>
            <a:ext cx="8037360" cy="48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:00-09: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s /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09:30-11:00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EXPReS Summary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1/NA2/NA3/NA4- Network Activities 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1- Production e-VLBI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20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SA2- Network Provision for a Global e-VLBI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A1- Future Arrays of Broadband Radio Telescop on Internet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00-11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15-11: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User: Benefits and capabilities of e-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45-12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nts from E.C. on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:30-13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62D-FC5A-4FF5-9CBD-E07EF3F6C3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3428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- Looking Dow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627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5791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rtesy of Paul Boven and Google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A2: Past 12 Month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9B6-5A7E-43C0-9F59-227D067090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A2- Network Provision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 institutions, operating 21 radiotele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rdination of work and funding at participant n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year is a learning experience, in particular for non-EU partners (China, Australia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C partial funding (8.75:1 in proposal) acts as a great catalyst of work and national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y uneven cost in Years 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year at very lower cost (most deliverables are no-cost feasibility stud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/more participants are able to obtain better deals for cheaper/fre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0 telescopes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6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Other infrastructures delivered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A2: Past 12 Month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571-6999-4EAA-9C5C-9EEDED8A3E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ite Connectivity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73220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28600" y="5716440"/>
            <a:ext cx="2841120" cy="609840"/>
            <a:chOff x="228600" y="5716440"/>
            <a:chExt cx="2841120" cy="609840"/>
          </a:xfrm>
        </p:grpSpPr>
        <p:sp>
          <p:nvSpPr>
            <p:cNvPr id="104" name=""/>
            <p:cNvSpPr/>
            <p:nvPr/>
          </p:nvSpPr>
          <p:spPr>
            <a:xfrm>
              <a:off x="228600" y="571644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3000" y="5884920"/>
              <a:ext cx="210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Gbps connected s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274200" y="5715000"/>
            <a:ext cx="2904480" cy="609480"/>
            <a:chOff x="3274200" y="5715000"/>
            <a:chExt cx="2904480" cy="609480"/>
          </a:xfrm>
        </p:grpSpPr>
        <p:sp>
          <p:nvSpPr>
            <p:cNvPr id="107" name=""/>
            <p:cNvSpPr/>
            <p:nvPr/>
          </p:nvSpPr>
          <p:spPr>
            <a:xfrm>
              <a:off x="5568840" y="5715000"/>
              <a:ext cx="609840" cy="609480"/>
            </a:xfrm>
            <a:prstGeom prst="ellipse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4200" y="5883120"/>
              <a:ext cx="222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 Gbps connected s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25520" y="1695600"/>
            <a:ext cx="689040" cy="688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760" y="3409920"/>
            <a:ext cx="68868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54080" y="2252520"/>
            <a:ext cx="1343160" cy="895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27160" y="3499920"/>
            <a:ext cx="869760" cy="171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A2: Past 12 Month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4720" y="1182600"/>
            <a:ext cx="68868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3080" y="4756320"/>
            <a:ext cx="689040" cy="688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1193760"/>
            <a:ext cx="689040" cy="689040"/>
          </a:xfrm>
          <a:prstGeom prst="ellipse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40200" y="1173240"/>
            <a:ext cx="68904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92440" y="1193760"/>
            <a:ext cx="68904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880" y="4255920"/>
            <a:ext cx="68904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5520" y="2554200"/>
            <a:ext cx="68904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6320" y="4757760"/>
            <a:ext cx="68904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1828800"/>
            <a:ext cx="733320" cy="1200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31680" y="1828800"/>
            <a:ext cx="925560" cy="1265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78040" y="1752480"/>
            <a:ext cx="2198880" cy="1581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514240" y="3908520"/>
            <a:ext cx="1676520" cy="968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47920" y="3429000"/>
            <a:ext cx="771480" cy="1371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90720" y="3472920"/>
            <a:ext cx="1000080" cy="870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971800"/>
            <a:ext cx="8701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FC4-20E9-4015-A2A6-5E1D269CC1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 SA2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pack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P1: Feasibility study of last-mile connection of telescopes to JIVE via GÉA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P2: Provision of the infrastructure and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P3: Connectivity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rastructures ready for 9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x telescopes operating routinely at 256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Network structur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38240" y="1285920"/>
            <a:ext cx="7066080" cy="4741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A2: Past 12 Month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A02-61F3-4B72-8969-0A46FD650D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N 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vious to EXPReS SA2: Connection ready for JIVE to: Westerbork, Onsala, Torun, Jodrell Bank, Medicina, M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shed for all EU sites: MPIfR, CNIG-IGN, M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vi, VI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PIfR and CNIG-IGN will connect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cina integrated in e-VLBI network in Aug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ine operations achieved up to 256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6080" y="1369800"/>
            <a:ext cx="8234280" cy="54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N non-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shed, but international part ongoing: ShAO, NAIC, HR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ning tests for MRO, ShAO, N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7000"/>
              </a:lnSpc>
              <a:buNone/>
              <a:tabLst>
                <a:tab algn="l" pos="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31284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 EV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shed for non-EU sites, but international part ongoing: CSIRO, 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ning tests for CS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7-04-16T20:36:02Z</dcterms:modified>
  <cp:revision>105</cp:revision>
  <dc:subject/>
  <dc:title>Slide 1</dc:title>
</cp:coreProperties>
</file>